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A7C-34F1-46FB-A31D-98167CA6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582-36C9-4140-9D47-51164E7B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5FA-BEBB-451F-B8BE-266D21CD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BBE-B0D8-40FE-9247-F401A0CD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50B9-4B1A-4BD3-8FAD-0D4BC9DC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5731-B71C-4BD1-BC88-A13A6CA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3BB-0EC8-4EBA-A99D-9A47E0EB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C1E1-3D93-4668-80B3-4FC91A4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C09-3C1B-44AF-B906-C0D0CC1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C2C1-DB25-4329-BEAC-7D265DF0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F17-891A-410C-9EA3-3971EDD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C72-23B5-4E7F-961C-52B73184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6A04-F195-4F94-A210-97C911F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659-CF2B-4B14-9BA5-395A1D2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8E87-1A07-483D-9786-A38F4BE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5D28-C5A2-43FC-8BD1-CC31D10F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9DD-4E0E-4731-91EE-E8F13C32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362-E5CD-41B3-8391-A6F884FC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FAA-98CD-41D9-950A-063BA100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57C-D385-4F92-A45B-D3F0E1F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B22-23A5-4799-8DA2-2CE62E90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11F-6593-43D3-A9E1-06BAC36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6BD-887D-4422-8E94-1969CF8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B7C-5D29-433B-84FB-805A9DE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A3C-B8C1-44DD-A1BC-114C9505A98A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291-7557-4623-9CCC-A6E0E81C0396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otos-de-paisagens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eaeaea"/>
                </a:solidFill>
                <a:latin typeface="Tahoma"/>
              </a:rPr>
              <a:t>MONTE CASTEL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falasse a língua dos anjos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em amor eu nada seria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05 Faixa 5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paisag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só o amor! É só o amo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Que conhece o que é verdad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amor é bom, não quer o mal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Não sente inveja ou se envaidece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0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amor é o fogo que arde sem se ve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ferida que dói e não se s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um contentamento descont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É dor que desatina sem do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njo-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83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falasse a língua dos anjo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em amor eu nada se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eninoSolitar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um não querer mais que bem querer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solitário andar por entre a gen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um não contentar-se de contente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ahoma"/>
              </a:rPr>
              <a:t>É cuidar que se ganha em se perder</a:t>
            </a: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amor-de-ver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estar-se preso por vontad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servir a quem vence, o vencedor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um ter com quem nos mata a leald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Tão contrário a si é o mesmo am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scrapsweb_amor-44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197000"/>
            <a:ext cx="7543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stou acordado e todos dormem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Todos dormem. Todos dormem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gora vejo em parte,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s então veremos face a f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sorte-no-am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000" y="198108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É só o amor! É só o amo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Que conhece o que é verda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aisagens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falasse a língua dos anjos,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em amor eu nada s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8:52Z</dcterms:created>
  <dc:creator>SEDMS</dc:creator>
  <dc:description/>
  <dc:language>en-US</dc:language>
  <cp:lastModifiedBy>ACER</cp:lastModifiedBy>
  <dcterms:modified xsi:type="dcterms:W3CDTF">2010-10-19T22:04:56Z</dcterms:modified>
  <cp:revision>3</cp:revision>
  <dc:subject/>
  <dc:title>Monte castelo</dc:title>
</cp:coreProperties>
</file>